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0E3-1232-4766-8BB3-F81BE9DF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5F2-17F1-42CB-AAE9-26CACF98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429-E0CE-43B7-84EA-09E599BD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39C-00C5-4DF4-98D8-A3D3A486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5EE6-DEE0-4946-9DBA-9E25B76D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4C55-87D7-4376-901F-767C0A3C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D869-2771-46A4-9229-5C532CDF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F61D-A8C4-4D7A-8ED6-598998B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213F-ED70-46CB-9DE7-E8C73577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3E96-68CB-4A71-B93B-9A0BCAE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ED70-9938-46E2-8D32-02A089FC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9B9-9687-4DD3-A719-F1109FAA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9727-AE3D-4CE2-80A4-3BB1D968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C993-E682-4748-86FA-B616E4B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49BD-C7EE-47E6-850B-7A4A0ADE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AFF9-4756-4EF6-8907-96F61D2C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B6FA-6D53-4AA1-A35E-FB94ED8E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A9F-0EF0-4099-994E-EC98014F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476-C2AA-4469-AACD-08FF9E54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B60-84DC-457E-830E-BAA0E3F1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432-8015-489B-90C0-3D3C8A82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0EB-A2D6-4406-938A-18B0037C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376-167C-4DE3-BEA4-B6075AF6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86A-DDD1-4B3B-8805-D9DE544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3280" y="76320"/>
            <a:ext cx="9409680" cy="6781680"/>
            <a:chOff x="233280" y="76320"/>
            <a:chExt cx="940968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33280" y="76320"/>
              <a:ext cx="9409680" cy="336600"/>
              <a:chOff x="233280" y="76320"/>
              <a:chExt cx="940968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33280" y="76320"/>
                <a:ext cx="1815480" cy="336600"/>
                <a:chOff x="233280" y="76320"/>
                <a:chExt cx="181548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141200" y="76320"/>
                  <a:ext cx="90756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141200" y="244800"/>
                  <a:ext cx="90756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33280" y="244800"/>
                  <a:ext cx="9079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33280" y="76320"/>
                  <a:ext cx="9079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24000" y="160200"/>
                  <a:ext cx="1633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2131560" y="76320"/>
                <a:ext cx="1815480" cy="336600"/>
                <a:chOff x="2131560" y="76320"/>
                <a:chExt cx="181548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3039480" y="76320"/>
                  <a:ext cx="90756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039480" y="244800"/>
                  <a:ext cx="90756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31560" y="244800"/>
                  <a:ext cx="9079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131560" y="76320"/>
                  <a:ext cx="9079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222280" y="160200"/>
                  <a:ext cx="163404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4029840" y="76320"/>
                <a:ext cx="1815480" cy="336600"/>
                <a:chOff x="4029840" y="76320"/>
                <a:chExt cx="181548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937760" y="76320"/>
                  <a:ext cx="90756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937760" y="244800"/>
                  <a:ext cx="90756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4029840" y="244800"/>
                  <a:ext cx="9079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4029840" y="76320"/>
                  <a:ext cx="9079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4120560" y="160200"/>
                  <a:ext cx="163404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928840" y="76320"/>
                <a:ext cx="1815480" cy="336600"/>
                <a:chOff x="5928840" y="76320"/>
                <a:chExt cx="181548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836760" y="76320"/>
                  <a:ext cx="90756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836760" y="244800"/>
                  <a:ext cx="90756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928840" y="244800"/>
                  <a:ext cx="9079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928840" y="76320"/>
                  <a:ext cx="9079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6019560" y="160200"/>
                  <a:ext cx="1633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827480" y="76320"/>
                <a:ext cx="1815480" cy="336600"/>
                <a:chOff x="7827480" y="76320"/>
                <a:chExt cx="181548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735400" y="76320"/>
                  <a:ext cx="90756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735400" y="244800"/>
                  <a:ext cx="90756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827480" y="244800"/>
                  <a:ext cx="9079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827480" y="76320"/>
                  <a:ext cx="9079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918200" y="160200"/>
                  <a:ext cx="163404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29400" y="6783480"/>
              <a:ext cx="9162000" cy="74520"/>
              <a:chOff x="329400" y="6783480"/>
              <a:chExt cx="91620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29400" y="6783480"/>
                <a:ext cx="1072800" cy="74520"/>
                <a:chOff x="329400" y="6783480"/>
                <a:chExt cx="10728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86580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2940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484640" y="6783480"/>
                <a:ext cx="1072800" cy="74520"/>
                <a:chOff x="1484640" y="6783480"/>
                <a:chExt cx="107280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202104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48464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640240" y="6783480"/>
                <a:ext cx="1072800" cy="74520"/>
                <a:chOff x="2640240" y="6783480"/>
                <a:chExt cx="107280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317664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64024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796200" y="6783480"/>
                <a:ext cx="1072800" cy="74520"/>
                <a:chOff x="3796200" y="6783480"/>
                <a:chExt cx="10728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33260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79620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951800" y="6783480"/>
                <a:ext cx="1072800" cy="74520"/>
                <a:chOff x="4951800" y="6783480"/>
                <a:chExt cx="107280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48820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95180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6107400" y="6783480"/>
                <a:ext cx="1072800" cy="74520"/>
                <a:chOff x="6107400" y="6783480"/>
                <a:chExt cx="107280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64380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610740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7263000" y="6783480"/>
                <a:ext cx="1072800" cy="74520"/>
                <a:chOff x="7263000" y="6783480"/>
                <a:chExt cx="10728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79940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726300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8418600" y="6783480"/>
                <a:ext cx="1072800" cy="74520"/>
                <a:chOff x="8418600" y="6783480"/>
                <a:chExt cx="107280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95500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41860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384360" y="6172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709884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A78A-1CC4-4AB0-85EF-0A63ACFB4F95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858960" cy="6750000"/>
            <a:chOff x="0" y="108000"/>
            <a:chExt cx="98589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858960" cy="6489720"/>
              <a:chOff x="0" y="108000"/>
              <a:chExt cx="98589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853200" cy="6369120"/>
                <a:chOff x="0" y="228600"/>
                <a:chExt cx="985320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830520" y="228600"/>
                  <a:ext cx="1675800" cy="6369120"/>
                  <a:chOff x="830520" y="228600"/>
                  <a:chExt cx="167580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830520" y="228600"/>
                    <a:ext cx="1675800" cy="1503360"/>
                    <a:chOff x="830520" y="228600"/>
                    <a:chExt cx="167580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8305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691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691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8305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926640" y="936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836360" y="936720"/>
                      <a:ext cx="6699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836360" y="1731960"/>
                      <a:ext cx="6699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926640" y="17319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830520" y="1851120"/>
                    <a:ext cx="1675800" cy="1503360"/>
                    <a:chOff x="830520" y="1851120"/>
                    <a:chExt cx="167580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8305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6923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6923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8305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925920" y="255852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836000" y="25585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836000" y="335448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925920" y="335448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830520" y="3471840"/>
                    <a:ext cx="1675800" cy="1503360"/>
                    <a:chOff x="830520" y="3471840"/>
                    <a:chExt cx="167580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8305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6923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6923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8305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925920" y="417924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836000" y="417924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836000" y="497520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925920" y="497520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830520" y="5094360"/>
                    <a:ext cx="1675800" cy="1503360"/>
                    <a:chOff x="830520" y="5094360"/>
                    <a:chExt cx="167580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8305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6923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6923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8305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925920" y="580176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836000" y="58017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836000" y="6597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925920" y="659772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666880" y="228600"/>
                  <a:ext cx="1676160" cy="6369120"/>
                  <a:chOff x="2666880" y="228600"/>
                  <a:chExt cx="167616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666880" y="228600"/>
                    <a:ext cx="1676160" cy="1503360"/>
                    <a:chOff x="2666880" y="228600"/>
                    <a:chExt cx="167616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666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5283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5283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666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763000" y="936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672720" y="936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672720" y="17319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763000" y="17319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666880" y="1851120"/>
                    <a:ext cx="1676160" cy="1503360"/>
                    <a:chOff x="2666880" y="1851120"/>
                    <a:chExt cx="167616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666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529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5290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6668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762280" y="255852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672720" y="25585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672720" y="335448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762280" y="335448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666880" y="3471840"/>
                    <a:ext cx="1676160" cy="1503360"/>
                    <a:chOff x="2666880" y="3471840"/>
                    <a:chExt cx="167616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666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529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5290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6668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762280" y="417924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672720" y="417924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672720" y="497520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762280" y="497520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666880" y="5094360"/>
                    <a:ext cx="1676160" cy="1503360"/>
                    <a:chOff x="2666880" y="5094360"/>
                    <a:chExt cx="167616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666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529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5290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6668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762280" y="580176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672720" y="58017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672720" y="6597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762280" y="659772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503960" y="228600"/>
                  <a:ext cx="1676160" cy="6369120"/>
                  <a:chOff x="4503960" y="228600"/>
                  <a:chExt cx="167616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503960" y="228600"/>
                    <a:ext cx="1676160" cy="1503360"/>
                    <a:chOff x="4503960" y="228600"/>
                    <a:chExt cx="167616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503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5365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5365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503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600080" y="936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509800" y="936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509800" y="17319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600080" y="17319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503960" y="1851120"/>
                    <a:ext cx="1676160" cy="1503360"/>
                    <a:chOff x="4503960" y="1851120"/>
                    <a:chExt cx="167616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5039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53661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53661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5039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599360" y="255852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509800" y="25585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509800" y="335448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599360" y="335448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503960" y="3471840"/>
                    <a:ext cx="1676160" cy="1503360"/>
                    <a:chOff x="4503960" y="3471840"/>
                    <a:chExt cx="167616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5039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53661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53661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5039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599360" y="417924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509800" y="417924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509800" y="497520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599360" y="497520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503960" y="5094360"/>
                    <a:ext cx="1676160" cy="1503360"/>
                    <a:chOff x="4503960" y="5094360"/>
                    <a:chExt cx="167616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5039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53661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53661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5039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599360" y="580176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509800" y="58017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509800" y="6597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599360" y="659772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340680" y="228600"/>
                  <a:ext cx="1675800" cy="6369120"/>
                  <a:chOff x="6340680" y="228600"/>
                  <a:chExt cx="167580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6340680" y="228600"/>
                    <a:ext cx="1675800" cy="1503360"/>
                    <a:chOff x="6340680" y="228600"/>
                    <a:chExt cx="167580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63406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7201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7201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63406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6436800" y="936720"/>
                      <a:ext cx="6699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7346160" y="936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7346160" y="17319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6436800" y="1731960"/>
                      <a:ext cx="6699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6340680" y="1851120"/>
                    <a:ext cx="1675800" cy="1503360"/>
                    <a:chOff x="6340680" y="1851120"/>
                    <a:chExt cx="167580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63406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72025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2025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3406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6436080" y="255852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346160" y="25585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346160" y="335448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6436080" y="335448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6340680" y="3471840"/>
                    <a:ext cx="1675800" cy="1503360"/>
                    <a:chOff x="6340680" y="3471840"/>
                    <a:chExt cx="167580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63406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72025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2025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3406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6436080" y="417924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7346160" y="417924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7346160" y="497520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436080" y="497520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6340680" y="5094360"/>
                    <a:ext cx="1675800" cy="1503360"/>
                    <a:chOff x="6340680" y="5094360"/>
                    <a:chExt cx="167580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63406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72025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2025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63406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436080" y="580176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7346160" y="58017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7346160" y="6597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6436080" y="659772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8177040" y="228600"/>
                  <a:ext cx="1676160" cy="6369120"/>
                  <a:chOff x="8177040" y="228600"/>
                  <a:chExt cx="167616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8177040" y="228600"/>
                    <a:ext cx="1676160" cy="1503360"/>
                    <a:chOff x="8177040" y="228600"/>
                    <a:chExt cx="167616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8177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90385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90385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8177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8273160" y="936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9182880" y="936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9182880" y="17319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8273160" y="17319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8177040" y="1851120"/>
                    <a:ext cx="1676160" cy="1503360"/>
                    <a:chOff x="8177040" y="1851120"/>
                    <a:chExt cx="167616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8177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9039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9039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8177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8272440" y="255852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9182880" y="25585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9182880" y="335448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272440" y="335448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8177040" y="3471840"/>
                    <a:ext cx="1676160" cy="1503360"/>
                    <a:chOff x="8177040" y="3471840"/>
                    <a:chExt cx="167616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177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9039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9039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8177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272440" y="417924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9182880" y="417924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9182880" y="497520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272440" y="497520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8177040" y="5094360"/>
                    <a:ext cx="1676160" cy="1503360"/>
                    <a:chOff x="8177040" y="5094360"/>
                    <a:chExt cx="167616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177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9039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9039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177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272440" y="580176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9182880" y="580176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9182880" y="6597720"/>
                      <a:ext cx="6703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8272440" y="6597720"/>
                      <a:ext cx="6706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5040" y="108000"/>
                <a:ext cx="9853920" cy="0"/>
                <a:chOff x="5040" y="108000"/>
                <a:chExt cx="985392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040" y="10800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32040" y="10800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841760" y="10800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68760" y="108000"/>
                  <a:ext cx="67032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678120" y="10800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605120" y="10800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14840" y="10800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442200" y="10800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351920" y="108000"/>
                  <a:ext cx="67032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78560" y="10800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9188280" y="108000"/>
                  <a:ext cx="6706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77800" y="1905120"/>
              <a:ext cx="8749440" cy="1676160"/>
              <a:chOff x="577800" y="1905120"/>
              <a:chExt cx="874944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952520" y="1905120"/>
                <a:ext cx="437472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52520" y="2743200"/>
                <a:ext cx="437472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7800" y="2743200"/>
                <a:ext cx="437472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7800" y="1905120"/>
                <a:ext cx="437472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42680" y="2057400"/>
                <a:ext cx="84200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30120" y="6783480"/>
              <a:ext cx="9162720" cy="74520"/>
              <a:chOff x="330120" y="6783480"/>
              <a:chExt cx="916272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30120" y="6783480"/>
                <a:ext cx="1072800" cy="74520"/>
                <a:chOff x="330120" y="6783480"/>
                <a:chExt cx="10728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86652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3012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485720" y="6783480"/>
                <a:ext cx="1072800" cy="74520"/>
                <a:chOff x="1485720" y="6783480"/>
                <a:chExt cx="107280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02212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48572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41320" y="6783480"/>
                <a:ext cx="1072800" cy="74520"/>
                <a:chOff x="2641320" y="6783480"/>
                <a:chExt cx="107280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17772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4132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797280" y="6783480"/>
                <a:ext cx="1072800" cy="74520"/>
                <a:chOff x="3797280" y="6783480"/>
                <a:chExt cx="10728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33368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79728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952880" y="6783480"/>
                <a:ext cx="1072800" cy="74520"/>
                <a:chOff x="4952880" y="6783480"/>
                <a:chExt cx="107280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48928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95288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108480" y="6783480"/>
                <a:ext cx="1072800" cy="74520"/>
                <a:chOff x="6108480" y="6783480"/>
                <a:chExt cx="107280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64488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10848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264440" y="6783480"/>
                <a:ext cx="1072800" cy="74520"/>
                <a:chOff x="7264440" y="6783480"/>
                <a:chExt cx="10728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800840" y="6783480"/>
                  <a:ext cx="5364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264440" y="6783480"/>
                  <a:ext cx="5364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8420040" y="6783480"/>
                <a:ext cx="1072800" cy="74520"/>
                <a:chOff x="8420040" y="6783480"/>
                <a:chExt cx="107280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956440" y="6783480"/>
                  <a:ext cx="5364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420040" y="6783480"/>
                  <a:ext cx="5364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3FD1-2257-4183-B097-1557DBDE5151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827600" y="3403440"/>
            <a:ext cx="26676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aking Transactions to a Higher Level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Johan Fabr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ogramming technology lab,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rije Universiteit Brussel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Syste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eta-level too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nnotate pieces of cod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tract info from code or (semi)formal spec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egrate at compile-ti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dvanced transaction manag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untime syste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trolled by code generated by t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urrent Tx Manager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hanced Tx Manage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aga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mantic consistenc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mmonaliti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e Ques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urrent Tx Manageme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egin – Commit / Abor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rewn throughout the cod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ifficult to creat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.g. error-handling at a rollbac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Hard to manag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w performa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w expressivenes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hance Tx Manage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ceptually: go to a higher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ovide semantic inform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Higher expressiveness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e to handle Tx intelligentl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aste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ewer rollback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aga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2057400"/>
            <a:ext cx="70866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4680" y="16002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lived transa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7920" y="2971800"/>
            <a:ext cx="7086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9000" y="25146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3124080"/>
            <a:ext cx="1371600" cy="228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3886200"/>
            <a:ext cx="13716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3886200"/>
            <a:ext cx="9907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3886200"/>
            <a:ext cx="152424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3886200"/>
            <a:ext cx="18288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3124080"/>
            <a:ext cx="990720" cy="228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67080" y="3124080"/>
            <a:ext cx="1524240" cy="228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3124080"/>
            <a:ext cx="1828800" cy="228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24680" y="3124080"/>
            <a:ext cx="457200" cy="228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3352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3352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34320" y="3352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780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940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073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9361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3352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520" y="4191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9920" y="4191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96920" y="4191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16440" y="4191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191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048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86728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8487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3040" y="4648320"/>
            <a:ext cx="8420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plit LLT in different “steps”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bort: Compensating Tx and Precond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emantic consisten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mpatibility sets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current execution within the se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se pre-condition 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ubdivided transac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ivide into different step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mpatibility set” of transactions for each step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hers …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rror-handl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peatable (with precondi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mpensate-able (with precondi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truistic locking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LT’s donate locks when no longer neede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x in the ‘wake’ of LLT accept dona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plit-transac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monalit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ry to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plit Tx into different par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ind semantic compensating ac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ind preconditions for T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ind ‘Compatible’ Tx for this Tx or par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e of Semantic information!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peatability, Compensate-ability, Preconditions, Divisibility, …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Ques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kind of semantic information can w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asonably expect to extract from the cod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Have the programmer specify (separately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ffectively use in advanced Tx manager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04:49Z</dcterms:created>
  <dc:creator>Johan Fabry</dc:creator>
  <dc:description/>
  <dc:language>en-US</dc:language>
  <cp:lastModifiedBy>Johan Fabry</cp:lastModifiedBy>
  <dcterms:modified xsi:type="dcterms:W3CDTF">2001-06-14T14:10:36Z</dcterms:modified>
  <cp:revision>20</cp:revision>
  <dc:subject/>
  <dc:title>Semantic Knowledge and Transaction management</dc:title>
</cp:coreProperties>
</file>